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86C7-1393-4CF9-8E09-FABA3A35F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24B5-11BB-40C2-990B-ABCDEC7691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DAA-7A08-4FF5-9754-9BE43940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C16-076E-4FA2-9333-F6EC9A5C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EE1-61E2-40D4-ADE8-66AA04F6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DDB-B5CF-453B-8B0F-2B620ED9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7765-103E-4EB8-9E83-99F6361B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1E18-AEFA-4AA5-A4DD-830B74DE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03D0-E7CC-404B-B20D-F8B7E973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9069-4F7F-48CE-9431-2661DD4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EDDC-B297-4673-85B8-323DB924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A924-4E4E-4858-9C3A-0719E146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5B91-8333-4922-8C5F-E53A4FF0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5DB-E2A8-491F-BFB7-8EEF5821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6B6F-CDEE-4935-BF47-23F1435A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3B78-794C-4F24-952E-87B8E40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B3C4-F0B3-4DE1-B281-52E382CB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F51A-BBCF-4F32-989F-A5A52DBD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A05D-8514-4A20-B15A-3DC2DC1B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981-B1D5-4AE5-869D-03E5DFAD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65C-DE8B-4551-84DF-3A64467A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347-60EE-4C08-88A2-BD673994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CEE-66B7-443E-993B-5E16F692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F09-7354-4518-824D-FB939B2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B60-502C-40E0-A5B1-F44EFB9E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DBC-EE25-4D41-8449-F505DD4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2122-5A90-42A9-B9D1-35255EC861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8DC0-529A-4670-9919-A843146069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77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o are some of the Not-So-Good Quarterbacks?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3733920" cy="466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733920" y="167652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memecrunch.com/meme/DMT9/rgknee/image.jpg?w=400&amp;c=1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gannett-cdn.com/-mm-/acfa3c317ca5932d55c748e271b3e60076eecfa1/c=0-84-1932-1539&amp;r=x404&amp;c=534x401/local/-/media/USATODAY/USATODAY/2014/05/08/1399604407000-USP-NFL-2014-NFL-Draft-025.jpg"/>
          <p:cNvPicPr/>
          <p:nvPr/>
        </p:nvPicPr>
        <p:blipFill>
          <a:blip r:embed="rId1"/>
          <a:stretch/>
        </p:blipFill>
        <p:spPr>
          <a:xfrm>
            <a:off x="228600" y="457200"/>
            <a:ext cx="365292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img.bleacherreport.net/img/slides/photos/003/635/923/b76c9b7d111e140b5c16c8a850c84724_crop_north.png?w=630&amp;h=420&amp;q=75"/>
          <p:cNvPicPr/>
          <p:nvPr/>
        </p:nvPicPr>
        <p:blipFill>
          <a:blip r:embed="rId2"/>
          <a:stretch/>
        </p:blipFill>
        <p:spPr>
          <a:xfrm>
            <a:off x="3352680" y="2666880"/>
            <a:ext cx="52056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5800" y="0"/>
            <a:ext cx="75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img.gawkerassets.com/img/192w85x9nl0ogjpg/ku-xlarge.jpg"/>
          <p:cNvPicPr/>
          <p:nvPr/>
        </p:nvPicPr>
        <p:blipFill>
          <a:blip r:embed="rId1"/>
          <a:stretch/>
        </p:blipFill>
        <p:spPr>
          <a:xfrm>
            <a:off x="380880" y="83808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Rhythm and Cadence:</a:t>
            </a:r>
            <a:br>
              <a:rPr sz="4800"/>
            </a:b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he Digital High-Tech-Definition Scoreboard of War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Succeed in American Civics Without Really Trying (Very Mu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hod Behind the Madnes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l-time scoreboard of how you are doing in Mr. Staten’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s confusion about where Honors and Demerits come fr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ll good QB’s, Mr. Staten has a rhythm and a cadence that 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currently going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bout to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e best quarterback in the National Football Leag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them the best quarterba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don’t know, or don’t watch football, that’s fine…just play along. :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sdemeanors (Demerit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N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ngs that disrupt the cla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ing seat without expressed per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ly call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rd sounds that are not human, nor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urbing the peace (example: profan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impoliteness or inciv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ing 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ing other classwork in my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m and/or eating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wing things: Paper airplanes… objects… things… peopl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hythm and Cad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. Staten has certa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tchphr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 uses whe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JOR INFRAC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out to be addres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ep outsid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s: “Go outside, wait, chill out for a few minutes because you need to calm down and pull yourself together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ting in class? Just go outs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 am about to call for people I can trus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the BIG one because it means someone needs to be escorted out of the room for committ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ea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reserved only for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J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al or physical hara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atment of women (and it goes both ways, lad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ing classroom without per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rection: open, public, flagrant def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ppropriate use of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bal and physical def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eaming like a lunatic/deliberate insa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eeping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hting/Sabo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s of Terrorism/Threats of terror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Proced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4176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nd outside my room in a silent, single-file, professional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iot, yell, or scream in the hallway outside my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fall into or destroy my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ter my room silently, professionally and go straight to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 patiently until I invite you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simply bust into my room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DO NOT OWN THI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ou are a g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 a pass if you are 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on Rhythm and Cad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Staten will, quite often, say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rack (whoever is speaking)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ans a minimum of two eyes must be directed at Mr. Staten or whoever he instr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write down something Mr. Staten ind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hythm and Cad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lease SLANT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up: correct posture is proven to make you ta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an forward: in your chair, hands politely on your desk, showing me that you’re a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k and answer questions: If you don’t understand, don’t be afraid to ask (reasonable) questions…and if you know the answer, raise your hand and say it (when called 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d for understanding: Show me that you’re not d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ck: we literally just went over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ntinental Col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at a level that is comfortable yet challenging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vel is for students who may be struggling with a concept or need additional hel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vel is for students who are comfortable working on their own. The average sixth grader should b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LU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vel is for students who are looking for a higher challenge. The work at this level is usually at an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lev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ntinental Col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ISMA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vel is the most challenging or the most independent. Heisman level activities involve independent writing or some form of creative expression, presentation, or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level is designed to challenge your thinking in different ways. Blue and Heisman level activities involve higher-order thinking, analysis and synthesis of ide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h Rules Everything Around 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n Stacks are a small reward for those who do the right th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ting Politely and Professionally (SLA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ng one of the first 3-5 senators ready after a count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ng (which means positively contributing to cla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ing a fellow senator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ing complete sentences with the proper, Queen’s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n Stack Salar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cking Chairs at the End of the Day: $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ing/Organizing Desks at the End of the Day: $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iffering/Vacuuming at the End of the Day: $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ing Mr. Staten’s Office Hours (Stay the Full ½ Hour): $2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guished Professionalism in Classroom, Hallway, or Office Hours: $20.00-$10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st Score on Quiz/Test: $5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d Batting Average: $10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-Time Job (Come to Office Hours 3x in a Week): $25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Time Job (Come to Office Hours 4x in a Week): $50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n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ect Score on the United States Constitution Final Exam: $2500.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ect Score on a Unit Test or Exam: $1000.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r. Staten reserves the right to pay other bonuses and salaries at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2057400" y="-1440"/>
            <a:ext cx="50212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n Stack Priz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m with a View (Extended Lunch in Mr. Staten’s Room): $5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ior Lecturer (Help Mr. Staten Teach a Class): $10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-School Special (History Movie during Office Hours): $50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nthouse (Mr. Staten Buys Lunch): $100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oney in the Bank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No…not this one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Money in the Bank Briefca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86200" cy="300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Money in the Bank Briefca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reward tho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go so far above and beyond the call of dut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Staten Stacks simply are not enough to show my appreciation for the good work senators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2103480" cy="2667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3"/>
          <a:stretch/>
        </p:blipFill>
        <p:spPr>
          <a:xfrm>
            <a:off x="3581280" y="4724280"/>
            <a:ext cx="2362320" cy="1846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4"/>
          <a:stretch/>
        </p:blipFill>
        <p:spPr>
          <a:xfrm>
            <a:off x="1828800" y="1905120"/>
            <a:ext cx="2082960" cy="2733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5"/>
          <a:stretch/>
        </p:blipFill>
        <p:spPr>
          <a:xfrm>
            <a:off x="0" y="441972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6"/>
          <a:stretch/>
        </p:blipFill>
        <p:spPr>
          <a:xfrm>
            <a:off x="6324480" y="457200"/>
            <a:ext cx="2646360" cy="1760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7"/>
          <a:stretch/>
        </p:blipFill>
        <p:spPr>
          <a:xfrm>
            <a:off x="4038480" y="2743200"/>
            <a:ext cx="2867040" cy="188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8"/>
          <a:stretch/>
        </p:blipFill>
        <p:spPr>
          <a:xfrm>
            <a:off x="6477120" y="3124080"/>
            <a:ext cx="2381040" cy="353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9"/>
          <a:stretch/>
        </p:blipFill>
        <p:spPr>
          <a:xfrm>
            <a:off x="4419720" y="228600"/>
            <a:ext cx="1752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static.comicvine.com/uploads/original/11111/111111122/4368749-8150853380-tombr.png"/>
          <p:cNvPicPr/>
          <p:nvPr/>
        </p:nvPicPr>
        <p:blipFill>
          <a:blip r:embed="rId1"/>
          <a:stretch/>
        </p:blipFill>
        <p:spPr>
          <a:xfrm>
            <a:off x="27000" y="990720"/>
            <a:ext cx="8880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1.pictures.zimbio.com/gi/Russell+Wilson+San+Francisco+49ers+v+Seattle+GGdX0nXypQ7l.jpg"/>
          <p:cNvPicPr/>
          <p:nvPr/>
        </p:nvPicPr>
        <p:blipFill>
          <a:blip r:embed="rId1"/>
          <a:stretch/>
        </p:blipFill>
        <p:spPr>
          <a:xfrm>
            <a:off x="2209680" y="68400"/>
            <a:ext cx="45720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057400" y="31680"/>
            <a:ext cx="505296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truluvsports.com/wp-content/uploads/2014/12/Cam-Newton.jpg"/>
          <p:cNvPicPr/>
          <p:nvPr/>
        </p:nvPicPr>
        <p:blipFill>
          <a:blip r:embed="rId1"/>
          <a:stretch/>
        </p:blipFill>
        <p:spPr>
          <a:xfrm>
            <a:off x="304920" y="762120"/>
            <a:ext cx="860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-3240" y="380880"/>
            <a:ext cx="91472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90720" y="42840"/>
            <a:ext cx="70642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24:58Z</dcterms:created>
  <dc:creator>user</dc:creator>
  <dc:description/>
  <dc:language>en-US</dc:language>
  <cp:lastModifiedBy>Lawrence Staten</cp:lastModifiedBy>
  <dcterms:modified xsi:type="dcterms:W3CDTF">2016-08-25T19:34:19Z</dcterms:modified>
  <cp:revision>91</cp:revision>
  <dc:subject/>
  <dc:title>Rhythm and Cadence</dc:title>
</cp:coreProperties>
</file>